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999-69FE-4573-9997-C7254335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363-6306-4F83-AEF9-656FEF7A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DD5-2E66-4928-BBEA-EC18793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D84-FEB3-4D1D-8778-CB309DFF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1DF-0E28-4720-B8E0-F546C69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450-F439-427E-BD0A-7E527A79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B29-AECE-483D-98DC-7C66921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F5F-D697-4ACB-8EF3-8145C708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052-D40C-41E9-88E5-4162138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9C9-8C38-4BBF-A9E9-4766E0E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5BC-CE14-43BC-B4E8-38C9B13F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604-6EF6-4602-A838-0A7106C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7CB-5D07-4588-86B7-513A28CF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To Your S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nda Morgan, MS, OTR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ly Landry, OTA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od week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card and ask your neighb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ake in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on your sheet~ Can you get all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yes~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236233"/>
          <p:cNvPicPr/>
          <p:nvPr/>
        </p:nvPicPr>
        <p:blipFill>
          <a:blip r:embed="rId1"/>
          <a:stretch/>
        </p:blipFill>
        <p:spPr>
          <a:xfrm>
            <a:off x="1371600" y="1905120"/>
            <a:ext cx="67816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e~Ol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36786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~Gust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54729"/>
          <p:cNvPicPr/>
          <p:nvPr/>
        </p:nvPicPr>
        <p:blipFill>
          <a:blip r:embed="rId1"/>
          <a:stretch/>
        </p:blipFill>
        <p:spPr>
          <a:xfrm>
            <a:off x="762120" y="1981080"/>
            <a:ext cx="7391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s~Aud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428651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ch~ Tact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G00427_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rioceptive (Muscle Inpu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336367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tibular (move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283934"/>
          <p:cNvPicPr/>
          <p:nvPr/>
        </p:nvPicPr>
        <p:blipFill>
          <a:blip r:embed="rId1"/>
          <a:stretch/>
        </p:blipFill>
        <p:spPr>
          <a:xfrm>
            <a:off x="1371600" y="1981080"/>
            <a:ext cx="6553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34:47Z</dcterms:created>
  <dc:creator>otusers</dc:creator>
  <dc:description/>
  <dc:language>en-US</dc:language>
  <cp:lastModifiedBy>otusers</cp:lastModifiedBy>
  <dcterms:modified xsi:type="dcterms:W3CDTF">2010-02-15T16:06:27Z</dcterms:modified>
  <cp:revision>7</cp:revision>
  <dc:subject/>
  <dc:title>Come To Your Senses</dc:title>
</cp:coreProperties>
</file>